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CF9E-EE00-4C96-929F-9B2DDF744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E217-C830-4A26-A3EB-C11EA986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DBD6-1708-4F50-8FEF-9CF768469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AA34-552C-426A-8533-287A463C8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8395-3866-469A-8821-1E396EFE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93FE-1445-4862-8393-8C8F1868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FE91-AF23-4016-B049-86064E49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9845-BB88-4F0B-AE66-B4C28038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9713-B071-4905-8F0E-1115AC15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64C6-4C68-472D-9FDC-983AFB3C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F73D-C2D5-4F8A-96D5-BE7DC0B1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E0F0-7091-4274-87EE-D31BD385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CEA1-6D86-4ACD-9031-97B4A6D7B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5600520" cy="3933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35640" y="119700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phase I and Telophas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03640" y="2205000"/>
            <a:ext cx="2089440" cy="1440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6372000" y="1628640"/>
            <a:ext cx="431640" cy="4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16360" y="1890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i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35280" y="5661000"/>
            <a:ext cx="547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333399"/>
                </a:solidFill>
                <a:uFillTx/>
                <a:latin typeface="Arial"/>
              </a:rPr>
              <a:t>http://www.anselm.edu/homepage/jpitocch/genbio/meiosisphases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phase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phase I begins when the two homologous chromosomes of each bivalent separate and start moving toward opposite poles of the cell as a result of the action of the spindle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ice that in anaphase I the sister chromatids remain attached at their centromeres and move together toward the poles. This is the key difference between mitosis and meiosis after the first metap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5256360" cy="2522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19280" y="4724280"/>
            <a:ext cx="619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333399"/>
                </a:solidFill>
                <a:uFillTx/>
                <a:latin typeface="Arial"/>
              </a:rPr>
              <a:t>http://www.phschool.com/science/biology_place/biocoach/meiosis/anai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lophase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Telophase I a haploid set of chromosomes is at each pole, with each chromosome still having two chromatids. A nuclear envelope reforms around each chromosome set, the spindle disappears, and cytokinesis follow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cells that undergo rapid meiosis do not decondense the chromosomes at the end of telophase I and move on to meiosis 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68360" y="2924280"/>
            <a:ext cx="4896000" cy="2349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92360" y="5084640"/>
            <a:ext cx="619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333399"/>
                </a:solidFill>
                <a:uFillTx/>
                <a:latin typeface="Arial"/>
              </a:rPr>
              <a:t>http://www.phschool.com/science/biology_place/biocoach/meiosis/anai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08:44:46Z</dcterms:created>
  <dc:creator>Your User Name</dc:creator>
  <dc:description/>
  <dc:language>en-US</dc:language>
  <cp:lastModifiedBy>Your User Name</cp:lastModifiedBy>
  <dcterms:modified xsi:type="dcterms:W3CDTF">2007-10-08T09:05:32Z</dcterms:modified>
  <cp:revision>3</cp:revision>
  <dc:subject/>
  <dc:title>Slide 1</dc:title>
</cp:coreProperties>
</file>